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9FA6-632B-4690-BFA5-7117433A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F75C-DC39-47B8-A293-C5A5E633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1C9A-4818-4A19-AC73-A2124A79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A6DB-456A-4055-9D7F-19403569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9922-6742-4319-B3B1-0855D147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A33E-A21E-4E3F-8B24-A5EC2702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9965-2189-421F-8F00-1D9B697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B1EE-B51B-4259-95E5-53ABB409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DD7D-57C2-408B-9B96-97A9C2E6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7907-10CD-4C67-9599-F413034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F993-D72E-4FE4-890D-6587329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5F95-310B-431F-9B47-E832F95D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530-F28F-4B85-B6EF-A9BD96A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514-D4DF-4621-9E8D-58F599F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5824-104C-4B58-96D1-41CAE445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B1C5-383B-4658-A19B-78B38BC1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568B-C5B1-4B5B-922B-F6001E0F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A700-AF3D-4D4E-B253-A9749B0A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06A8-71AF-4F68-B34D-8FD47F31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1B20-F9BD-4A36-8B7C-9CA12DEA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C098-3F89-41AC-B251-A0CF7EA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A117-16EA-400E-B30C-DC7527CC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3C67-95C0-4D85-A040-9BD4F81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480C-6F6A-445A-8DE6-91695CD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4291-0422-4252-9A7D-8C0E1B8F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3399-4E64-4709-BCC6-F59270C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0844-64AA-4219-B056-8524BEBC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93CF-EAA9-4BF6-81CE-DC8D776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FE91-6465-426A-9D95-4534030D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9E1A-6DF9-4D00-8A7B-DE3733E4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186D-6B61-4AA9-AF1D-E3D44210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55FE-4030-4D7C-885D-980248E6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2191-9929-4EDC-A93B-154CD77D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711F-4AA4-4463-8978-DE8FB37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D742-FD18-4A6C-B36A-21034D1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4530-1BA2-410E-890C-0FD21D1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9C1-F5B6-45AA-AB1E-39AA26755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7B32-2811-4EDE-9A63-9D81B9CA57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AE50-469D-4BB0-9565-FEFCEA41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aySPM6Win0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946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o how do you get students to follow the rules?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534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Don’t do </a:t>
            </a:r>
            <a:r>
              <a:rPr b="1" lang="en-US" sz="6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this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! </a:t>
            </a:r>
            <a:br>
              <a:rPr sz="66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(unless you want to lose your job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afety in the Classroom</a:t>
            </a:r>
            <a:endParaRPr b="1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Teachers are responsible for classroom safety.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66688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ll of i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038480"/>
            <a:ext cx="8382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lway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First Line of Action: Avoiding Problems</a:t>
            </a:r>
            <a:br>
              <a:rPr sz="72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-- Proactive vs. Reactive --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Where do you start?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4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3713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sson planning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spcAft>
                <a:spcPts val="3713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assroom rule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ypical Laboratory Safety List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o: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Become familiar with the experiment before coming to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Follow all laboratory instructions carefull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now all emergency and fire procedur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sk for clarification on any laboratory procedures that are not understood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ear safety glasses during exercises with glassware, heat, or chemica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ear laboratory aprons or coats when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ear protective gloves when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ssume all chemicals are toxic and corrosive and act accordingl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ad the labels on all chemica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Stopper or cap all reagent bottles when not in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eep your work area neat, clean, organized, and clear of clutter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now the location of emergency equipment.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Exercise great caution whenever using heat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eep hair and loose clothing restricted and well away from flam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urn off the gas source when a Bunsen burner is not in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Use proper ventilation and hoods when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Handle hot glassware with appropriate clamps or tong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Use extra caution when working with sharp object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sk for instructor assistance in cleaning up broken glass or chemical spil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iscard sharp items in a “sharps container.”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iscard cracked or broken glass in a “broken glass container.”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port all accidents to your instructor immediatel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port to your instructor any condition that seems unsaf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Keep all laboratory exits clear of debri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ut away all items no longer in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Use special care when carrying heavy and expensive equipment.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Seek first aid assistance for all cuts or other minor injuri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Always add acid slowly to water. Never add water to acid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Notify your instructor of any symptoms of illness or allergic reactions.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lace culture materials in biohazard bags as directed by your instructor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Clean your lab table and return all cleaned equipment to its proper plac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urn off all gas nozzles and water faucets when leaving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Clean your work area and wash hands before leaving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o NOT: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Begin laboratory work until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o anything in the laboratory that is not understood or that you feel is dangerou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Engage in any horseplay in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erform unauthorized experiment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Operate any equipment until you have been instructed in its proper us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Work in isolation—a second person should always be nearb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Remove any materials from the laboratory unless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ouch your face when working with chemicals or biological cultur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et potential hazards make you afraid to participate in laboratory activiti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eave a Bunsen burner or other flame source unattended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ight a flame source near flammable material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Move a lit Bunsen burner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Taste or ingest any chemicals or plant material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Handle or consume food or drink in the laboratory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ipet anything by mouth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ut chemicals in a sink or in the trash unless instructed to do so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Pour chemicals back into dispensing container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Leave a test tube stopper in place when heating test tubes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Drink from laboratory glassware. </a:t>
            </a:r>
            <a:endParaRPr b="1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e familiar with and follow those r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ink-Pair-Shar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What would you choose as the three most important safety rules in your classroom?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4343400" cy="4419720"/>
            <a:chOff x="0" y="0"/>
            <a:chExt cx="4343400" cy="4419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670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0"/>
              <a:ext cx="4343400" cy="441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343400" y="1905120"/>
            <a:ext cx="4800600" cy="4952880"/>
            <a:chOff x="4343400" y="1905120"/>
            <a:chExt cx="4800600" cy="4952880"/>
          </a:xfrm>
        </p:grpSpPr>
        <p:sp>
          <p:nvSpPr>
            <p:cNvPr id="159" name=""/>
            <p:cNvSpPr/>
            <p:nvPr/>
          </p:nvSpPr>
          <p:spPr>
            <a:xfrm>
              <a:off x="4343400" y="1905120"/>
              <a:ext cx="4800600" cy="4952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498920" y="1981080"/>
              <a:ext cx="4645080" cy="48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6478920" y="609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8:20Z</dcterms:created>
  <dc:creator>Cynthia J. Moore</dc:creator>
  <dc:description/>
  <dc:language>en-US</dc:language>
  <cp:lastModifiedBy>Cynthia Moore</cp:lastModifiedBy>
  <dcterms:modified xsi:type="dcterms:W3CDTF">2011-02-16T16:07:17Z</dcterms:modified>
  <cp:revision>32</cp:revision>
  <dc:subject/>
  <dc:title>Safety in the Classroom</dc:title>
</cp:coreProperties>
</file>